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96088" cy="9925050"/>
  <p:custShowLst>
    <p:custShow name="定期テスト対策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C0B5-B925-46BF-A68D-3B9252F8AAC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CB42-2C84-4705-AF48-E9DADE54DFE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1C1-60C4-439E-BE6F-787CE52C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709B-4BCB-4826-90E6-A00B7FA6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3213-69E7-4753-ACBD-491CF360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8925-FCBA-4171-BCB2-A9E3346C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2AE6-AD45-4EC7-8424-9711A2FF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80DE-4A5B-4736-BC33-900754A5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DDCD-8F1B-47B0-84D2-6ABE38B3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FC93-3F4B-49BC-B280-423A832C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BF94-2CEE-4AF5-A3B5-8283D1C7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B57E-1B4A-4E37-806C-7E19BA3E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C9A8-3411-4E34-B823-BFDFA575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0B86-9A0E-4519-A8C3-25A48F7A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6476-2E5E-4587-9395-7FF7AE77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8601-3021-4551-A87E-A377574C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A9DA-B633-4971-BC10-38AC37D2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255C-67ED-4AEA-8F3C-303D1BC2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B98C-1BEE-44C4-BDFF-82A5AD9C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D21C4-DF39-49A6-9019-BFD682DA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40BC0-15C0-40BC-94F3-E438CAFD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8609C-56DF-40FD-9941-40AEA8DD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6A693-FE75-4061-94D2-795B979A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26BD5-9DA9-47A1-A572-E0A375E5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8DC-9283-4F58-ACEF-D5B02CFD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EA44E-4F9A-432D-BBF4-3A3EDC15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7BC87-5AB8-4890-B397-29635265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D1807-BE4B-4584-A902-79820ABE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06C1D-70A3-42C8-921E-63735F23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DEBFF-D88C-4498-B944-9F6942F9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284BC-72A1-41D3-8AEB-1E58E1ED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44EC8-5F67-4402-AC6C-873D956F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F3F0-CCBB-404C-94FE-2AEF5C62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B951-44C7-42C8-B29A-041C6108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C4F-B367-4BEB-8E68-AF919E64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9C1D-7854-4886-92BF-B8707F3F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E62C-E595-444B-882A-DB4FCDC3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9DA6-A4DD-4EA1-8DC3-3E6CE5F5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25AE-367F-4293-85B0-8C823058BCB1}" type="slidenum">
              <a:rPr b="1" lang="ja-JP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9631-A77A-44B8-A43E-485E8039892A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4A82-B752-4A66-9BAD-7C7FF0EB5573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3500280"/>
            <a:ext cx="6753240" cy="13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第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7</a:t>
            </a: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回　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SIST</a:t>
            </a: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勉強会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47640" y="4800240"/>
            <a:ext cx="604872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d1282e"/>
                </a:solidFill>
                <a:latin typeface="Arial Black"/>
              </a:rPr>
              <a:t>　「②夏期講習の準備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C:\Users\arisawa\Desktop\Resized\アシスト／欧文ロゴ.jpg"/>
          <p:cNvPicPr/>
          <p:nvPr/>
        </p:nvPicPr>
        <p:blipFill>
          <a:blip r:embed="rId1"/>
          <a:stretch/>
        </p:blipFill>
        <p:spPr>
          <a:xfrm>
            <a:off x="755640" y="674640"/>
            <a:ext cx="7620120" cy="2048040"/>
          </a:xfrm>
          <a:prstGeom prst="rect">
            <a:avLst/>
          </a:prstGeom>
          <a:ln w="0">
            <a:noFill/>
          </a:ln>
        </p:spPr>
      </p:pic>
      <p:sp>
        <p:nvSpPr>
          <p:cNvPr id="139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F189-316A-4D00-8EEA-375A8CC31380}" type="slidenum">
              <a:rPr b="1" lang="ja-JP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タイトル 1"/>
          <p:cNvSpPr/>
          <p:nvPr/>
        </p:nvSpPr>
        <p:spPr>
          <a:xfrm>
            <a:off x="141120" y="404640"/>
            <a:ext cx="8823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◆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集客のために①</a:t>
            </a:r>
            <a:r>
              <a:rPr b="1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（資料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テキスト ボックス 5"/>
          <p:cNvSpPr/>
          <p:nvPr/>
        </p:nvSpPr>
        <p:spPr>
          <a:xfrm>
            <a:off x="468360" y="1268280"/>
            <a:ext cx="7848720" cy="53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□</a:t>
            </a:r>
            <a:r>
              <a:rPr b="0" lang="ja-JP" sz="3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知名度Ｕ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校門前配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⇒年間行事予定表の回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駅前配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⇒新企画　常盤平駅を利用する高校生をターゲット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　　　　朝の登校時に配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校舎前のぼり設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⇒日常の風景に溶け込まないように、こまめに替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目の前を歩く人の目線を意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CCBF-6709-4CDD-9BBA-32B25DD0FCD6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タイトル 1"/>
          <p:cNvSpPr/>
          <p:nvPr/>
        </p:nvSpPr>
        <p:spPr>
          <a:xfrm>
            <a:off x="141120" y="404640"/>
            <a:ext cx="8823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◆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集客のために②</a:t>
            </a:r>
            <a:r>
              <a:rPr b="1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（資料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5"/>
          <p:cNvSpPr/>
          <p:nvPr/>
        </p:nvSpPr>
        <p:spPr>
          <a:xfrm>
            <a:off x="468360" y="1268280"/>
            <a:ext cx="784872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□</a:t>
            </a:r>
            <a:r>
              <a:rPr b="0" lang="ja-JP" sz="3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成績へのこだわ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直前勉強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⇒これまでは「日曜日５時間の問題演習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ja-JP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今年度からは「日曜日の朝９</a:t>
            </a:r>
            <a:r>
              <a:rPr b="0" lang="en-US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:</a:t>
            </a:r>
            <a:r>
              <a:rPr b="0" lang="ja-JP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００～夜９</a:t>
            </a:r>
            <a:r>
              <a:rPr b="0" lang="en-US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:</a:t>
            </a:r>
            <a:r>
              <a:rPr b="0" lang="ja-JP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００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過去問演習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主に理数系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⇒</a:t>
            </a:r>
            <a:r>
              <a:rPr b="0" lang="ja-JP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定期テストの予想範囲の予習終了時の定着度確認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定期テスト前の宿題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定期テスト前の授業教材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上記の直前勉強会の教材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en-US" sz="24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※</a:t>
            </a:r>
            <a:r>
              <a:rPr b="0" lang="ja-JP" sz="24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同じ範囲を６種類くらい用意できれば足りる。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8D01-E722-4999-A523-CFED84760DC2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タイトル 1"/>
          <p:cNvSpPr/>
          <p:nvPr/>
        </p:nvSpPr>
        <p:spPr>
          <a:xfrm>
            <a:off x="141120" y="404640"/>
            <a:ext cx="8823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◆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集客のために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テキスト ボックス 5"/>
          <p:cNvSpPr/>
          <p:nvPr/>
        </p:nvSpPr>
        <p:spPr>
          <a:xfrm>
            <a:off x="468360" y="1268280"/>
            <a:ext cx="784872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学校ワークの繰り返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⇒テスト１ヶ月前の個人面談で、目標点の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チェック表の活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☆</a:t>
            </a:r>
            <a:r>
              <a:rPr b="0" lang="ja-JP" sz="24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良い結果はチラシ・</a:t>
            </a:r>
            <a:r>
              <a:rPr b="0" lang="en-US" sz="24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HP</a:t>
            </a:r>
            <a:r>
              <a:rPr b="0" lang="ja-JP" sz="24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・掲示物の素材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58F8-4DA6-42A6-862F-20D8F845A6D5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タイトル 1"/>
          <p:cNvSpPr/>
          <p:nvPr/>
        </p:nvSpPr>
        <p:spPr>
          <a:xfrm>
            <a:off x="141120" y="404640"/>
            <a:ext cx="8823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◆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講習授業準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5"/>
          <p:cNvSpPr/>
          <p:nvPr/>
        </p:nvSpPr>
        <p:spPr>
          <a:xfrm>
            <a:off x="468360" y="126828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□</a:t>
            </a:r>
            <a:r>
              <a:rPr b="0" lang="ja-JP" sz="3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カリキュラム作成</a:t>
            </a:r>
            <a:r>
              <a:rPr b="0" lang="ja-JP" sz="24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（別紙１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日数と使用テキスト、内容の決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お弁当箱の出し方の決定（まとめ出し？毎回出し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⇒自動作成を利用するためには、テンプレ必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□</a:t>
            </a:r>
            <a:r>
              <a:rPr b="0" lang="ja-JP" sz="3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テキスト以外の準備</a:t>
            </a:r>
            <a:r>
              <a:rPr b="0" lang="ja-JP" sz="24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（別紙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♦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小テス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英語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熟語テスト　・数学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公立入試大問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国語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漢字テスト　・理社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一問一答ｼｬｯﾌ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☆</a:t>
            </a:r>
            <a:r>
              <a:rPr b="1" lang="ja-JP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一覧表で配布。どの日にどの範囲かを明確にし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事前に勉強させることが目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EBE2-DC27-4196-8910-3723879362B8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タイトル 1"/>
          <p:cNvSpPr/>
          <p:nvPr/>
        </p:nvSpPr>
        <p:spPr>
          <a:xfrm>
            <a:off x="141120" y="404640"/>
            <a:ext cx="8823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◆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講習授業準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テキスト ボックス 5"/>
          <p:cNvSpPr/>
          <p:nvPr/>
        </p:nvSpPr>
        <p:spPr>
          <a:xfrm>
            <a:off x="468360" y="1268280"/>
            <a:ext cx="78487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♦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宿題　別の冊子を使う？　プリントを用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英語　テンプレートテスト＋夏期テキストの読解和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理社　別の夏期テキス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お弁当箱のセリフ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英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夏期　英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回目Ｂ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プリン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説明を聞きます。全力でメモしてください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プリン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,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「基本問題」をやります。間違えたところはしっかりメモ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取りましょう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プリン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4,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「演習問題Ａ」をやります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テキストを見せに来てください。宿題プリントを渡します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宿題プリントの文法を進めます。コンテンツはあり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終わったら持ってき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長文問題は必ず家でやるように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4EB8-7BA9-4BD3-8B6D-91271480F300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タイトル 1"/>
          <p:cNvSpPr/>
          <p:nvPr/>
        </p:nvSpPr>
        <p:spPr>
          <a:xfrm>
            <a:off x="141120" y="404640"/>
            <a:ext cx="8823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◆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講習授業準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テキスト ボックス 5"/>
          <p:cNvSpPr/>
          <p:nvPr/>
        </p:nvSpPr>
        <p:spPr>
          <a:xfrm>
            <a:off x="468360" y="126828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英語　夏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回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プリン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4,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「演習問題Ａ」をやります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プリン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6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「演習問題Ｂ」をや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ただし、３の読解はやらなくていいです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テキストを見せに来てください。宿題プリント（読解と文法）を渡します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宿題の文法プリントを進めます。コンテンツはあり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終わったら持ってきてください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文法プリントの残りと読解プリントが、宿題とな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9AF1-1CEF-4597-847E-4707894DE96C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5:58:20Z</dcterms:created>
  <dc:creator>arisawa</dc:creator>
  <dc:description/>
  <dc:language>en-US</dc:language>
  <cp:lastModifiedBy>Matsubara</cp:lastModifiedBy>
  <cp:lastPrinted>2013-06-06T02:58:55Z</cp:lastPrinted>
  <dcterms:modified xsi:type="dcterms:W3CDTF">2017-05-23T22:41:03Z</dcterms:modified>
  <cp:revision>1040</cp:revision>
  <dc:subject/>
  <dc:title>第１回　Assist勉強会</dc:title>
</cp:coreProperties>
</file>